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47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50.jpeg" ContentType="image/jpeg"/>
  <Override PartName="/ppt/media/image12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2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501-E619-4DDD-852D-2315E6AE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80A-6CB2-4F05-9127-C6343CD6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A8B-4CC0-4B0F-ACF1-11E8C352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690-9934-4344-A440-EDB3262F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C1B36-9284-4208-B0C3-090280FC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D1D15-1865-41AA-BA5E-4F316B68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CE728-577F-450E-A0F6-41FD36BE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F6856-2A8C-42BD-8319-63F71808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53AE7-6E78-4E68-A4B4-8E33F132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A386EA-7C62-41A0-AA3F-D1660068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B1444-A805-4E7D-9D84-2D3AC2AF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204-DB96-4A23-BEC0-BE78FAB3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33741-1CBA-44D6-9514-83A3852A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574D0-B145-4234-A926-48213BD0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AC709-78C9-420A-A42F-EBE30036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24D4C-3EED-4996-89E7-B49245F1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EEE4E5-4031-43D1-9C2E-202C5D8D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832B-C7CD-48A1-8C49-5ED564A8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0D7-06A5-4410-8117-4F44A28B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A68-6D7A-4C20-AD29-DC6083E6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CFC-FF28-43E4-921D-5A4189C4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EF7F-40AE-48FC-B3EC-A6F81D67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799-CAAC-4CE1-89A7-F94CF713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2E07-9F8D-4982-9B68-6F7D6A63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F262-0F7F-434A-80E4-49E179C355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37B9-BE5E-4256-959D-299478A088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Westward Ho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Pioneers on the Oregon Tr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agons West</a:t>
            </a:r>
            <a:br>
              <a:rPr sz="40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“Prairie Schooners”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1933560" cy="2361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3610080" cy="1844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715000" y="3733920"/>
            <a:ext cx="295272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Wild Animals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2322360" cy="2322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952880" y="2209680"/>
            <a:ext cx="240372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400"/>
            </a:br>
            <a:r>
              <a:rPr b="0" lang="en-CA" sz="3600" spc="-1" strike="noStrike">
                <a:solidFill>
                  <a:srgbClr val="e3e3ff"/>
                </a:solidFill>
                <a:latin typeface="Arial"/>
              </a:rPr>
              <a:t>Fording the Rivers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3071520" cy="2301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35448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4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Indians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4053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ccidents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2532240" cy="3249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25686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eather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583080" cy="2384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495680" y="2971800"/>
            <a:ext cx="405936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Illness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352680" y="1752480"/>
            <a:ext cx="254160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Childbirth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262404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Hunger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00400" y="1752480"/>
            <a:ext cx="284328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angers Along the Way</a:t>
            </a:r>
            <a:br>
              <a:rPr sz="44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irst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27414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Manifest Destin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133720" y="1600200"/>
            <a:ext cx="493524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Milestone</a:t>
            </a:r>
            <a:br>
              <a:rPr sz="4400"/>
            </a:br>
            <a:r>
              <a:rPr b="0" lang="en-CA" sz="3600" spc="-1" strike="noStrike">
                <a:solidFill>
                  <a:srgbClr val="e3e3ff"/>
                </a:solidFill>
                <a:latin typeface="Arial"/>
              </a:rPr>
              <a:t>Chimney Rock, Nebraska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20160" y="4951800"/>
            <a:ext cx="7535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isible for miles, this landmark along the Oregon Trail was mention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re frequently than any other natural feature in the diaries of pioneers.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29588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ione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2751120" cy="3230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343400" y="1523880"/>
            <a:ext cx="3463920" cy="2297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572000" y="3581280"/>
            <a:ext cx="30258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ione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3446280" cy="2293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3867120" cy="2278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33520" y="3505320"/>
            <a:ext cx="29988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lack &amp; Jewish Pione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3940200" cy="2814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419720" y="2819520"/>
            <a:ext cx="45241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men Pione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477120" y="1676520"/>
            <a:ext cx="1984320" cy="2765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3254400" cy="1911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2666880" y="3352680"/>
            <a:ext cx="360216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men Pione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251600" cy="2981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3322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men Pione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4482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men Pione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516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omen Pionee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567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End of the Trail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The Oregon Territory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8944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Pioneer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“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one who ventures into unknown or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unclaimed territory to sett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405000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The Oregon Trail and the Pioneers in Ar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845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The Oregon Trail and the Pioneers in Ar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3684600" cy="2759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46162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The Oregon Trail and the Pioneers in Ar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4030560" cy="27763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359280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Other Trails West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outh Pass (wide valley through the Rocky Mt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ante Fe Trail (800 miles, Missouri to Sante F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Mormon Trail (Illinois to Uta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352680" y="3886200"/>
            <a:ext cx="2476800" cy="1847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172200" y="3886200"/>
            <a:ext cx="2476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Start of the Trail</a:t>
            </a:r>
            <a:br>
              <a:rPr sz="4000"/>
            </a:b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Independence, Missouri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8452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Oregon Trai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ce Missouri to the Oregon Territory; 2,000 m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isks and re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000 people in 1843; 2,000 in 184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white people to cross were missiona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regon Fever has broken out and is now raging.” (Boston newspap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Oregon Trai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455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Oregon Trai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2438280"/>
            <a:ext cx="4003560" cy="2797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33520" y="1676520"/>
            <a:ext cx="3701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Oregon Trai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2778120" cy="1825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3052800" cy="1893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295280" y="3505320"/>
            <a:ext cx="2641680" cy="1911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352680" y="2438280"/>
            <a:ext cx="2760840" cy="1836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181480" y="3581280"/>
            <a:ext cx="30258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agons West</a:t>
            </a:r>
            <a:br>
              <a:rPr sz="4000"/>
            </a:b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“Prairie Schooners”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581280" y="3352680"/>
            <a:ext cx="2286000" cy="2124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2641680" cy="2077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27608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9:16:24Z</dcterms:created>
  <dc:creator>epilla</dc:creator>
  <dc:description/>
  <dc:language>en-US</dc:language>
  <cp:lastModifiedBy>epilla</cp:lastModifiedBy>
  <dcterms:modified xsi:type="dcterms:W3CDTF">2011-05-19T13:15:58Z</dcterms:modified>
  <cp:revision>26</cp:revision>
  <dc:subject/>
  <dc:title>“Give us the Vote!”</dc:title>
</cp:coreProperties>
</file>